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CE9-1468-4DB5-88D2-759FF4EB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328-ECF1-4E75-8AB8-6BFB6C7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681-2485-4793-9528-EF061DF6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3F5-E647-4FD1-B455-35B9623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CC3-3151-45AA-8C49-3E5039F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3CC-5EEA-4D23-8E1D-6D1FCF6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670-CDCC-4C32-82DC-4283373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C03-CE15-4B78-B96F-DBD30AA8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1E4-A349-46EF-8743-6455339A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B41-4CA1-4E8B-80A3-7A129C9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CBE-DE8D-4C46-94A1-EB6994D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B24-4139-4644-AE7A-71B4BD4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34D3-4642-4729-B556-1489429EA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nest James A. Gel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wnee Rose S.Med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1981080" y="2344680"/>
            <a:ext cx="45720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rogram Files (x86)\Microsoft Office\MEDIA\CAGCAT10\j0297707.wmf"/>
          <p:cNvPicPr/>
          <p:nvPr/>
        </p:nvPicPr>
        <p:blipFill>
          <a:blip r:embed="rId1"/>
          <a:stretch/>
        </p:blipFill>
        <p:spPr>
          <a:xfrm>
            <a:off x="642960" y="741240"/>
            <a:ext cx="2743200" cy="337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Student\AppData\Local\Microsoft\Windows\Temporary Internet Files\Content.IE5\KSPTYE90\MP900402788[1].jpg"/>
          <p:cNvPicPr/>
          <p:nvPr/>
        </p:nvPicPr>
        <p:blipFill>
          <a:blip r:embed="rId2"/>
          <a:stretch/>
        </p:blipFill>
        <p:spPr>
          <a:xfrm>
            <a:off x="3967200" y="741240"/>
            <a:ext cx="403380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44792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llo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983200" y="391788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C:\Users\Student\AppData\Local\Microsoft\Windows\Temporary Internet Files\Content.IE5\KSPTYE90\MC900436363[1].png"/>
          <p:cNvPicPr/>
          <p:nvPr/>
        </p:nvPicPr>
        <p:blipFill>
          <a:blip r:embed="rId3"/>
          <a:stretch/>
        </p:blipFill>
        <p:spPr>
          <a:xfrm>
            <a:off x="1752480" y="4397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3967200" y="624852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p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text bo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derline 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symb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animations to sl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sh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ehearse slide s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au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d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p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hange fon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hange fon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tran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nsert p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sent tables and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header and foo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0:10:53Z</dcterms:created>
  <dc:creator>Student</dc:creator>
  <dc:description/>
  <dc:language>en-US</dc:language>
  <cp:lastModifiedBy>Student</cp:lastModifiedBy>
  <dcterms:modified xsi:type="dcterms:W3CDTF">2012-09-27T00:22:21Z</dcterms:modified>
  <cp:revision>2</cp:revision>
  <dc:subject/>
  <dc:title>Ernest James A. Gelmo Rownee Rose S.Mediano</dc:title>
</cp:coreProperties>
</file>